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7A2A3-3AD2-4534-A977-793DBA1B4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87761-D032-4FD4-98C7-1DEBB7741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55D74-9FC0-4724-8D9D-8478D1CF6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C6E77-3909-4DAA-B9BB-13D2DFA62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37C12-B975-414C-8D9E-B491C98C2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01F62-A00C-4883-8FFF-3F0BB9FCE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4135A-CABE-473E-B7DC-71AAA884B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3BDF9-E73C-471D-A5C4-78D2D6F26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F005B-EA01-4524-B6CD-A6A98EFAA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447A7-02D2-464E-969B-F2F48B55F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975F3-CA64-4280-8783-D7CE2219A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A7583-8E72-4DF9-9EBA-1C8FE1023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276C4-39CA-4A22-A429-24A6BA2D68AE}"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28280"/>
            <a:ext cx="7772400" cy="32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Inner Cities In MEDC’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London Docklands: Last 20 Years</a:t>
            </a:r>
            <a:endParaRPr b="0" lang="en-US" sz="4400" spc="-1" strike="noStrike">
              <a:solidFill>
                <a:srgbClr val="000000"/>
              </a:solidFill>
              <a:latin typeface="Calibri"/>
            </a:endParaRPr>
          </a:p>
        </p:txBody>
      </p:sp>
      <p:sp>
        <p:nvSpPr>
          <p:cNvPr id="59"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y centres and services have been introduced to previously declining areas in an attempt to engender more community spiri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isure centres and shopping malls have all added to the community fe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l the residents are happy though, as many of the new jobs are too highly skilled for the original residents of the docklands, and they resent the new people coming into their are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he Inner City</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explained earlier the </a:t>
            </a:r>
            <a:r>
              <a:rPr b="1" lang="en-US" sz="3200" spc="-1" strike="noStrike">
                <a:solidFill>
                  <a:srgbClr val="000000"/>
                </a:solidFill>
                <a:latin typeface="Calibri"/>
              </a:rPr>
              <a:t>Inner City</a:t>
            </a:r>
            <a:r>
              <a:rPr b="0" lang="en-US" sz="3200" spc="-1" strike="noStrike">
                <a:solidFill>
                  <a:srgbClr val="000000"/>
                </a:solidFill>
                <a:latin typeface="Calibri"/>
              </a:rPr>
              <a:t> is also known as the </a:t>
            </a:r>
            <a:r>
              <a:rPr b="1" lang="en-US" sz="3200" spc="-1" strike="noStrike">
                <a:solidFill>
                  <a:srgbClr val="000000"/>
                </a:solidFill>
                <a:latin typeface="Calibri"/>
              </a:rPr>
              <a:t>zone of transition</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inner cities of large urban areas once had industry located there, however this has almost totally moved ou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ictorian terraces built to house thefactory workers remain in many inner cities, however in some they have been replaced by huge tower bloc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A Simple Solution???</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though seemingly the solution to the problems produced by the terraces, the tower blocks also caused a wide range of social problem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ently inner city planning has centred around rejuvenating the area in alternative ways, to try to encourage the growth of these declining are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ase Study: Birmingham</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rmingham is a very good example of where, in the 1960’s, the local authority tried to rejuvenate the inner city areas by knocking down vast areas of Victorian terraces, replacing them with large tower block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rraces were seen to be old-fashioned, with poor living standard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ten they lacked things that we would take for granted, like central heating, and had inadequate kitchen and bathroom faciliti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ocal authority decided that the way to combat the problems would be to knock down all the old terraces and completely start agai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other cities around Britain did the same th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ase Study: Birmingham</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buildings were poorly built and soon began to need costly repairs.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y had poor facilities and few green area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re was no sense of community for the people who lived there, leading to increased crime, vandalism and graffiti.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ll these things combined to make the area a dangerous one. Many areas of tower blocks were centres for drug traders and other criminal gangs.</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ase Study: Birmingham</a:t>
            </a:r>
            <a:endParaRPr b="0" lang="en-US" sz="4400" spc="-1" strike="noStrike">
              <a:solidFill>
                <a:srgbClr val="000000"/>
              </a:solidFill>
              <a:latin typeface="Calibri"/>
            </a:endParaRPr>
          </a:p>
        </p:txBody>
      </p:sp>
      <p:sp>
        <p:nvSpPr>
          <p:cNvPr id="51"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 of living was poor, with illness and overcrowding a regular occurr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people would not choose to live in this type of housing, so it was inhabited by the poorly paid, unemployed or new arrived immigra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led to socialt ensions and in the early 1980's inner city areas in Liverpool, Bristol and London all experienced serious rio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ase Study: London Docklands</a:t>
            </a:r>
            <a:endParaRPr b="0" lang="en-US" sz="4400" spc="-1" strike="noStrike">
              <a:solidFill>
                <a:srgbClr val="000000"/>
              </a:solidFill>
              <a:latin typeface="Calibri"/>
            </a:endParaRPr>
          </a:p>
        </p:txBody>
      </p:sp>
      <p:sp>
        <p:nvSpPr>
          <p:cNvPr id="53" name=""/>
          <p:cNvSpPr txBox="1"/>
          <p:nvPr/>
        </p:nvSpPr>
        <p:spPr>
          <a:xfrm>
            <a:off x="457200" y="1599840"/>
            <a:ext cx="82296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fter the riots of the early 1980’s a report by Lord Scarman proposed a new way of dealing with </a:t>
            </a:r>
            <a:r>
              <a:rPr b="1" lang="en-US" sz="2600" spc="-1" strike="noStrike">
                <a:solidFill>
                  <a:srgbClr val="000000"/>
                </a:solidFill>
                <a:latin typeface="Calibri"/>
              </a:rPr>
              <a:t>inner city</a:t>
            </a:r>
            <a:r>
              <a:rPr b="0" lang="en-US" sz="2600" spc="-1" strike="noStrike">
                <a:solidFill>
                  <a:srgbClr val="000000"/>
                </a:solidFill>
                <a:latin typeface="Calibri"/>
              </a:rPr>
              <a:t> trouble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suggested that these areas should be subject to urban renewal (improving existing buildings) rather than redeveloping areas by knocking them down and starting again.</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London Docklands is the best known example of an inner city area that has been completely transformed in this way.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1" lang="en-US" sz="2600" spc="-1" strike="noStrike">
                <a:solidFill>
                  <a:srgbClr val="000000"/>
                </a:solidFill>
                <a:latin typeface="Calibri"/>
              </a:rPr>
              <a:t>London Docklands Development Corporation (LDDC)</a:t>
            </a:r>
            <a:r>
              <a:rPr b="0" lang="en-US" sz="2600" spc="-1" strike="noStrike">
                <a:solidFill>
                  <a:srgbClr val="000000"/>
                </a:solidFill>
                <a:latin typeface="Calibri"/>
              </a:rPr>
              <a:t> was set up to renew the area.</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London Docklands: Last 20 Years</a:t>
            </a:r>
            <a:endParaRPr b="0" lang="en-US" sz="4400" spc="-1" strike="noStrike">
              <a:solidFill>
                <a:srgbClr val="000000"/>
              </a:solidFill>
              <a:latin typeface="Calibri"/>
            </a:endParaRPr>
          </a:p>
        </p:txBody>
      </p:sp>
      <p:sp>
        <p:nvSpPr>
          <p:cNvPr id="55"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gentrification of old buildings.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is basically means keeping the outside of old warehouses and gutting the insides.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Often these are then refurbished to become very expensive riverside flat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Docklands Light Railway and Jubilee Line extension have increased access to the docklands area, whilst the City Airport has allowed quick transfers to places throughout Europe.</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London Docklands: Last 20 Years</a:t>
            </a:r>
            <a:endParaRPr b="0" lang="en-US" sz="4400" spc="-1" strike="noStrike">
              <a:solidFill>
                <a:srgbClr val="000000"/>
              </a:solidFill>
              <a:latin typeface="Calibri"/>
            </a:endParaRPr>
          </a:p>
        </p:txBody>
      </p:sp>
      <p:sp>
        <p:nvSpPr>
          <p:cNvPr id="57" name=""/>
          <p:cNvSpPr txBox="1"/>
          <p:nvPr/>
        </p:nvSpPr>
        <p:spPr>
          <a:xfrm>
            <a:off x="457200" y="1599840"/>
            <a:ext cx="82296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w tax rates and rents have been used to attract large businesses to relocate to the area.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s include the Daily Telegraph and many financial institution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ary Wharf Tower has been the centre point of this business influx.</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using has also been built, not just for the rich, young workers in the city, but also for the under-privileged groups who were living in the docklands area previously.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w cost housing has been built, and schemes set up to help people buy them.</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02:27:58Z</dcterms:created>
  <dc:creator>Dell_02</dc:creator>
  <dc:description/>
  <dc:language>en-US</dc:language>
  <cp:lastModifiedBy>Dell_02</cp:lastModifiedBy>
  <dcterms:modified xsi:type="dcterms:W3CDTF">2011-01-26T02:50:55Z</dcterms:modified>
  <cp:revision>3</cp:revision>
  <dc:subject/>
  <dc:title>Inner Cities In MEDC’s</dc:title>
</cp:coreProperties>
</file>